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E278-C782-439C-A72C-A66C28FE244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9649-1FDA-4E02-BECF-D3303B33E23F}" type="slidenum">
              <a:rPr b="0" lang="ko-KR" sz="12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C836-EC60-4479-9FC5-2BE4ADFB3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7374-487F-4D33-9542-AF0E71B9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1B8D-2280-4A2A-8CED-C7802A1E4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D245-6C50-4CBE-BEAE-7BF48AF46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8051-CAD4-4D2B-A95F-7642A8D26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75B4-C735-49DB-BE52-7582C786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E3DF-232F-48C8-848D-5320D6E0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264B-AA87-4F50-96DC-AEF06D46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2A32-7A8B-4574-B335-8FDBE6C6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0278-4704-4F0C-92E4-6445F470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F61A-04D5-434C-93C8-2B5F7655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C259-048C-4F6A-87CF-B8345AFB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B73C-605F-4D5C-A10C-73ABAFAA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C232-E9C0-4BA2-A628-F3D999DA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001B-967C-4007-B371-63063757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B228-A8D0-4CFD-9D44-5A93C7055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0E0A-BEFA-4033-89B3-D75BFD4E1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54DF-6059-4032-AD43-DFBF3ECF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227A-03C0-4BBF-A328-9A2207DE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92A3-1BB1-48C7-8380-A8C7C46D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B6B0-6329-413F-94C9-CF3E9F49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1389-0910-45BA-A58C-E4FEE774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78FE-6C96-4D74-96AA-786CFB90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55AF-20AE-4509-904F-CD49138F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BF64-67CC-4D6B-882D-0C8CEF1E34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21CE-FFBC-48FC-B467-C0579447ED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Line 2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4587840" y="189000"/>
            <a:ext cx="368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제</a:t>
            </a:r>
            <a:r>
              <a:rPr b="0" lang="en-US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16</a:t>
            </a:r>
            <a:r>
              <a:rPr b="0" lang="ko-KR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장 독점문제의 정책적 접근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324000" y="981000"/>
            <a:ext cx="7777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571680" y="1285920"/>
            <a:ext cx="7848360" cy="40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□</a:t>
            </a: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원인금지주의와 폐해규제주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</a:t>
            </a:r>
            <a:r>
              <a:rPr b="0" lang="ko-KR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○</a:t>
            </a: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원인금지주의 </a:t>
            </a: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: </a:t>
            </a:r>
            <a:r>
              <a:rPr b="0" lang="ko-KR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독점구조를 방지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○</a:t>
            </a: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폐해규제주의 </a:t>
            </a: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: </a:t>
            </a:r>
            <a:r>
              <a:rPr b="0" lang="ko-KR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독점적 행위를 방지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○</a:t>
            </a: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당연위법원칙</a:t>
            </a: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( per se rule) : </a:t>
            </a:r>
            <a:r>
              <a:rPr b="0" lang="ko-KR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합리적 이유 불인정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○</a:t>
            </a: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합리성의 원칙</a:t>
            </a: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(rule of reason) : </a:t>
            </a:r>
            <a:r>
              <a:rPr b="0" lang="ko-KR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합리적 이유 인정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직사각형 5"/>
          <p:cNvSpPr/>
          <p:nvPr/>
        </p:nvSpPr>
        <p:spPr>
          <a:xfrm>
            <a:off x="8072280" y="6143760"/>
            <a:ext cx="7146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60c"/>
                </a:solidFill>
                <a:latin typeface="굴림체"/>
                <a:ea typeface="굴림체"/>
              </a:rPr>
              <a:t>1/10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Line 2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4587840" y="189000"/>
            <a:ext cx="368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제</a:t>
            </a:r>
            <a:r>
              <a:rPr b="0" lang="en-US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16</a:t>
            </a:r>
            <a:r>
              <a:rPr b="0" lang="ko-KR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장 독점문제의 정책적 접근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1" name="직사각형 5"/>
          <p:cNvSpPr/>
          <p:nvPr/>
        </p:nvSpPr>
        <p:spPr>
          <a:xfrm>
            <a:off x="571680" y="5715000"/>
            <a:ext cx="800100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60c"/>
              </a:buClr>
              <a:buFont typeface="한컴바탕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60c"/>
                </a:solidFill>
                <a:latin typeface="한컴바탕"/>
                <a:ea typeface="한컴바탕"/>
              </a:rPr>
              <a:t></a:t>
            </a:r>
            <a:r>
              <a:rPr b="1" lang="ko-KR" sz="1400" spc="-1" strike="noStrike">
                <a:solidFill>
                  <a:srgbClr val="00060c"/>
                </a:solidFill>
                <a:latin typeface="한컴바탕"/>
                <a:ea typeface="한컴바탕"/>
              </a:rPr>
              <a:t>가격상한선을</a:t>
            </a:r>
            <a:r>
              <a:rPr b="1" lang="en-US" sz="1400" spc="-1" strike="noStrike">
                <a:solidFill>
                  <a:srgbClr val="00060c"/>
                </a:solidFill>
                <a:latin typeface="한컴바탕"/>
                <a:ea typeface="한컴바탕"/>
              </a:rPr>
              <a:t></a:t>
            </a:r>
            <a:r>
              <a:rPr b="1" lang="ko-KR" sz="1400" spc="-1" strike="noStrike">
                <a:solidFill>
                  <a:srgbClr val="00060c"/>
                </a:solidFill>
                <a:latin typeface="한컴바탕"/>
                <a:ea typeface="한컴바탕"/>
              </a:rPr>
              <a:t>보다조금만높게설정하면기업은장기적으로는초과이윤을노려</a:t>
            </a:r>
            <a:r>
              <a:rPr b="1" lang="en-US" sz="1400" spc="-1" strike="noStrike">
                <a:solidFill>
                  <a:srgbClr val="00060c"/>
                </a:solidFill>
                <a:latin typeface="한컴바탕"/>
                <a:ea typeface="한컴바탕"/>
              </a:rPr>
              <a:t></a:t>
            </a:r>
            <a:r>
              <a:rPr b="1" lang="ko-KR" sz="1400" spc="-1" strike="noStrike">
                <a:solidFill>
                  <a:srgbClr val="00060c"/>
                </a:solidFill>
                <a:latin typeface="한컴바탕"/>
                <a:ea typeface="한컴바탕"/>
              </a:rPr>
              <a:t>를따라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60c"/>
              </a:buClr>
              <a:buFont typeface="한컴바탕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60c"/>
                </a:solidFill>
                <a:latin typeface="한컴바탕"/>
                <a:ea typeface="한컴바탕"/>
              </a:rPr>
              <a:t>생산량을</a:t>
            </a:r>
            <a:r>
              <a:rPr b="1" lang="en-US" sz="1400" spc="-1" strike="noStrike">
                <a:solidFill>
                  <a:srgbClr val="00060c"/>
                </a:solidFill>
                <a:latin typeface="한컴바탕"/>
                <a:ea typeface="한컴바탕"/>
              </a:rPr>
              <a:t></a:t>
            </a:r>
            <a:r>
              <a:rPr b="1" lang="ko-KR" sz="1400" spc="-1" strike="noStrike">
                <a:solidFill>
                  <a:srgbClr val="00060c"/>
                </a:solidFill>
                <a:latin typeface="한컴바탕"/>
                <a:ea typeface="한컴바탕"/>
              </a:rPr>
              <a:t>까지확장해나갈것이다</a:t>
            </a:r>
            <a:r>
              <a:rPr b="1" lang="en-US" sz="1400" spc="-1" strike="noStrike">
                <a:solidFill>
                  <a:srgbClr val="00060c"/>
                </a:solidFill>
                <a:latin typeface="한컴바탕"/>
                <a:ea typeface="한컴바탕"/>
              </a:rPr>
              <a:t>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2" name="직사각형 6"/>
          <p:cNvSpPr/>
          <p:nvPr/>
        </p:nvSpPr>
        <p:spPr>
          <a:xfrm>
            <a:off x="571680" y="1000080"/>
            <a:ext cx="8001000" cy="450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5cb9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3" name="직사각형 8"/>
          <p:cNvSpPr/>
          <p:nvPr/>
        </p:nvSpPr>
        <p:spPr>
          <a:xfrm>
            <a:off x="8072280" y="6143760"/>
            <a:ext cx="7146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60c"/>
                </a:solidFill>
                <a:latin typeface="굴림체"/>
                <a:ea typeface="굴림체"/>
              </a:rPr>
              <a:t>10/10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14" name="그림 9" descr="16-3 copy.bmp"/>
          <p:cNvPicPr/>
          <p:nvPr/>
        </p:nvPicPr>
        <p:blipFill>
          <a:blip r:embed="rId1"/>
          <a:stretch/>
        </p:blipFill>
        <p:spPr>
          <a:xfrm>
            <a:off x="1763640" y="1413000"/>
            <a:ext cx="5545080" cy="3671640"/>
          </a:xfrm>
          <a:prstGeom prst="rect">
            <a:avLst/>
          </a:prstGeom>
          <a:ln cap="sq" w="64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15" name="모서리가 둥근 직사각형 10"/>
          <p:cNvSpPr/>
          <p:nvPr/>
        </p:nvSpPr>
        <p:spPr>
          <a:xfrm>
            <a:off x="1476360" y="1268280"/>
            <a:ext cx="2374920" cy="360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60c"/>
                </a:solidFill>
                <a:latin typeface="굴림"/>
              </a:rPr>
              <a:t>그림 </a:t>
            </a:r>
            <a:r>
              <a:rPr b="1" lang="en-US" sz="1200" spc="-1" strike="noStrike">
                <a:solidFill>
                  <a:srgbClr val="00060c"/>
                </a:solidFill>
                <a:latin typeface="굴림"/>
              </a:rPr>
              <a:t>16-3  </a:t>
            </a:r>
            <a:r>
              <a:rPr b="1" lang="ko-KR" sz="1200" spc="-1" strike="noStrike">
                <a:solidFill>
                  <a:srgbClr val="00060c"/>
                </a:solidFill>
                <a:latin typeface="굴림"/>
              </a:rPr>
              <a:t>가격상한선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5">
            <a:hlinkClick r:id="rId1" action="ppaction://hlinksldjump"/>
          </p:cNvPr>
          <p:cNvSpPr/>
          <p:nvPr/>
        </p:nvSpPr>
        <p:spPr>
          <a:xfrm>
            <a:off x="1000080" y="1500120"/>
            <a:ext cx="6643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□</a:t>
            </a: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자연독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  ○ 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규모의 경제와 자연독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○</a:t>
            </a: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가격규제 또는 공기업화로 해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587840" y="189000"/>
            <a:ext cx="368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제</a:t>
            </a:r>
            <a:r>
              <a:rPr b="0" lang="en-US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16</a:t>
            </a:r>
            <a:r>
              <a:rPr b="0" lang="ko-KR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장 독점문제의 정책적 접근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Line 2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직사각형 5">
            <a:hlinkClick r:id="rId2" action="ppaction://hlinksldjump"/>
          </p:cNvPr>
          <p:cNvSpPr/>
          <p:nvPr/>
        </p:nvSpPr>
        <p:spPr>
          <a:xfrm>
            <a:off x="2500200" y="2857680"/>
            <a:ext cx="2156040" cy="5000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60c"/>
                </a:solidFill>
                <a:latin typeface="굴림체"/>
                <a:ea typeface="굴림체"/>
              </a:rPr>
              <a:t>&lt; </a:t>
            </a:r>
            <a:r>
              <a:rPr b="1" lang="ko-KR" sz="1800" spc="-1" strike="noStrike">
                <a:solidFill>
                  <a:srgbClr val="00060c"/>
                </a:solidFill>
                <a:latin typeface="굴림체"/>
                <a:ea typeface="굴림체"/>
              </a:rPr>
              <a:t>그림 </a:t>
            </a:r>
            <a:r>
              <a:rPr b="1" lang="en-US" sz="1800" spc="-1" strike="noStrike">
                <a:solidFill>
                  <a:srgbClr val="00060c"/>
                </a:solidFill>
                <a:latin typeface="굴림체"/>
                <a:ea typeface="굴림체"/>
              </a:rPr>
              <a:t>16-1 &gt;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직사각형 7"/>
          <p:cNvSpPr/>
          <p:nvPr/>
        </p:nvSpPr>
        <p:spPr>
          <a:xfrm>
            <a:off x="8072280" y="6143760"/>
            <a:ext cx="7146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60c"/>
                </a:solidFill>
                <a:latin typeface="굴림체"/>
                <a:ea typeface="굴림체"/>
              </a:rPr>
              <a:t>2/10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Line 2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4587840" y="189000"/>
            <a:ext cx="368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제</a:t>
            </a:r>
            <a:r>
              <a:rPr b="0" lang="en-US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16</a:t>
            </a:r>
            <a:r>
              <a:rPr b="0" lang="ko-KR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장 독점문제의 정책적 접근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714240" y="1071720"/>
            <a:ext cx="7848720" cy="50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□</a:t>
            </a: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. </a:t>
            </a:r>
            <a:r>
              <a:rPr b="0" lang="ko-KR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독점금지정책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   ○</a:t>
            </a: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미국의</a:t>
            </a: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독점금지법 </a:t>
            </a: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3</a:t>
            </a:r>
            <a:r>
              <a:rPr b="0" lang="ko-KR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大 성문법 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   </a:t>
            </a: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- Sherman Act(1890)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   </a:t>
            </a: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- Clayton Act(1914) 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   </a:t>
            </a: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- Federal Trade Commission Act(1914)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   </a:t>
            </a:r>
            <a:r>
              <a:rPr b="0" lang="ko-KR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○</a:t>
            </a: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한국의 독점규제 및 공정거래에 관한 법률</a:t>
            </a: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(1980)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  </a:t>
            </a: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1. </a:t>
            </a:r>
            <a:r>
              <a:rPr b="0" lang="ko-KR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독점금지정책의 모색기 </a:t>
            </a: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: 1964 ~ 1975</a:t>
            </a:r>
            <a:r>
              <a:rPr b="0" lang="ko-KR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  </a:t>
            </a: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2. </a:t>
            </a:r>
            <a:r>
              <a:rPr b="0" lang="ko-KR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독점금지정책의 도입기 </a:t>
            </a: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: 1975 ~ 1980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  </a:t>
            </a: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3. </a:t>
            </a:r>
            <a:r>
              <a:rPr b="0" lang="ko-KR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독점금지정책의 확립기 </a:t>
            </a: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: 1980 ~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6" name="직사각형 4"/>
          <p:cNvSpPr/>
          <p:nvPr/>
        </p:nvSpPr>
        <p:spPr>
          <a:xfrm>
            <a:off x="8072280" y="6143760"/>
            <a:ext cx="7146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60c"/>
                </a:solidFill>
                <a:latin typeface="굴림체"/>
                <a:ea typeface="굴림체"/>
              </a:rPr>
              <a:t>3/10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Line 2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4587840" y="189000"/>
            <a:ext cx="368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제</a:t>
            </a:r>
            <a:r>
              <a:rPr b="0" lang="en-US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16</a:t>
            </a:r>
            <a:r>
              <a:rPr b="0" lang="ko-KR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장 독점문제의 정책적 접근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Text Box 5">
            <a:hlinkClick r:id="rId1" action="ppaction://hlinksldjump"/>
          </p:cNvPr>
          <p:cNvSpPr/>
          <p:nvPr/>
        </p:nvSpPr>
        <p:spPr>
          <a:xfrm>
            <a:off x="714240" y="1143000"/>
            <a:ext cx="7848720" cy="42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□</a:t>
            </a: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공공규제정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  ○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공익산업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(public utilities)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의 독점 폐해 방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  ○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자연독점 → 시장실패 → 공공규제 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가격규제 또는 국유화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□</a:t>
            </a: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수익률규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  ○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적정수익률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(fair rate of return)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만 벌도록 가격통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 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○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생산의 비효율성 초래 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: A-J Effects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0" name="직사각형 5">
            <a:hlinkClick r:id="rId2" action="ppaction://hlinksldjump"/>
          </p:cNvPr>
          <p:cNvSpPr/>
          <p:nvPr/>
        </p:nvSpPr>
        <p:spPr>
          <a:xfrm>
            <a:off x="2786040" y="4214880"/>
            <a:ext cx="2155680" cy="5000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60c"/>
                </a:solidFill>
                <a:latin typeface="굴림체"/>
                <a:ea typeface="굴림체"/>
              </a:rPr>
              <a:t>&lt; </a:t>
            </a:r>
            <a:r>
              <a:rPr b="1" lang="ko-KR" sz="1800" spc="-1" strike="noStrike">
                <a:solidFill>
                  <a:srgbClr val="00060c"/>
                </a:solidFill>
                <a:latin typeface="굴림체"/>
                <a:ea typeface="굴림체"/>
              </a:rPr>
              <a:t>그림 </a:t>
            </a:r>
            <a:r>
              <a:rPr b="1" lang="en-US" sz="1800" spc="-1" strike="noStrike">
                <a:solidFill>
                  <a:srgbClr val="00060c"/>
                </a:solidFill>
                <a:latin typeface="굴림체"/>
                <a:ea typeface="굴림체"/>
              </a:rPr>
              <a:t>16-2 &gt;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1" name="직사각형 6"/>
          <p:cNvSpPr/>
          <p:nvPr/>
        </p:nvSpPr>
        <p:spPr>
          <a:xfrm>
            <a:off x="8072280" y="6143760"/>
            <a:ext cx="7146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60c"/>
                </a:solidFill>
                <a:latin typeface="굴림체"/>
                <a:ea typeface="굴림체"/>
              </a:rPr>
              <a:t>4/10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Line 2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4587840" y="189000"/>
            <a:ext cx="368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제</a:t>
            </a:r>
            <a:r>
              <a:rPr b="0" lang="en-US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16</a:t>
            </a:r>
            <a:r>
              <a:rPr b="0" lang="ko-KR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장 독점문제의 정책적 접근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714240" y="1071720"/>
            <a:ext cx="7848720" cy="51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□</a:t>
            </a:r>
            <a:r>
              <a:rPr b="0" lang="en-US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. </a:t>
            </a:r>
            <a:r>
              <a:rPr b="0" lang="ko-KR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공공소유정책</a:t>
            </a:r>
            <a:endParaRPr b="0" lang="en-US" sz="21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○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산업의 전부를 정부가 소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○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산업의 일부를 정부가 소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○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산업을 국유화 시키는 목적 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공익추구와 경영성과 개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□</a:t>
            </a:r>
            <a:r>
              <a:rPr b="0" lang="en-US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. </a:t>
            </a:r>
            <a:r>
              <a:rPr b="0" lang="ko-KR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공공소유의 이점 </a:t>
            </a:r>
            <a:endParaRPr b="0" lang="en-US" sz="21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○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자연독점 문제 해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○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수익을 공익용도로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정부가 사업의 위험부담을 감수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   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노동자의 소외감을 불식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 □</a:t>
            </a:r>
            <a:r>
              <a:rPr b="0" lang="en-US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. </a:t>
            </a:r>
            <a:r>
              <a:rPr b="0" lang="ko-KR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공공소유의 문제점 </a:t>
            </a:r>
            <a:endParaRPr b="0" lang="en-US" sz="21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○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의사결정기준이 불분명 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이윤 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or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공익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○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효율성의 문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5" name="직사각형 4"/>
          <p:cNvSpPr/>
          <p:nvPr/>
        </p:nvSpPr>
        <p:spPr>
          <a:xfrm>
            <a:off x="8072280" y="6143760"/>
            <a:ext cx="7146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60c"/>
                </a:solidFill>
                <a:latin typeface="굴림체"/>
                <a:ea typeface="굴림체"/>
              </a:rPr>
              <a:t>5/10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Line 2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4587840" y="189000"/>
            <a:ext cx="368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제</a:t>
            </a:r>
            <a:r>
              <a:rPr b="0" lang="en-US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16</a:t>
            </a:r>
            <a:r>
              <a:rPr b="0" lang="ko-KR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장 독점문제의 정책적 접근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500040" y="1143000"/>
            <a:ext cx="784872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□</a:t>
            </a: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통제와 권고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  ○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가격통제 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상한가격 설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 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○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가격통제의 효과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□</a:t>
            </a: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가격권고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  ○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정부가 기업에 대한 설득으로 가격안정화를 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  ○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미국의 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guideposts program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□</a:t>
            </a: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정보제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 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○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소비자에게 충분한 정보 제공 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대항력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육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9" name="직사각형 6">
            <a:hlinkClick r:id="rId1" action="ppaction://hlinksldjump"/>
          </p:cNvPr>
          <p:cNvSpPr/>
          <p:nvPr/>
        </p:nvSpPr>
        <p:spPr>
          <a:xfrm>
            <a:off x="2071800" y="2286000"/>
            <a:ext cx="2155680" cy="5000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60c"/>
                </a:solidFill>
                <a:latin typeface="굴림체"/>
                <a:ea typeface="굴림체"/>
              </a:rPr>
              <a:t>&lt; </a:t>
            </a:r>
            <a:r>
              <a:rPr b="1" lang="ko-KR" sz="1800" spc="-1" strike="noStrike">
                <a:solidFill>
                  <a:srgbClr val="00060c"/>
                </a:solidFill>
                <a:latin typeface="굴림체"/>
                <a:ea typeface="굴림체"/>
              </a:rPr>
              <a:t>그림 </a:t>
            </a:r>
            <a:r>
              <a:rPr b="1" lang="en-US" sz="1800" spc="-1" strike="noStrike">
                <a:solidFill>
                  <a:srgbClr val="00060c"/>
                </a:solidFill>
                <a:latin typeface="굴림체"/>
                <a:ea typeface="굴림체"/>
              </a:rPr>
              <a:t>16-3 &gt;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직사각형 7"/>
          <p:cNvSpPr/>
          <p:nvPr/>
        </p:nvSpPr>
        <p:spPr>
          <a:xfrm>
            <a:off x="8072280" y="6143760"/>
            <a:ext cx="7146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60c"/>
                </a:solidFill>
                <a:latin typeface="굴림체"/>
                <a:ea typeface="굴림체"/>
              </a:rPr>
              <a:t>6/10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Line 2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4587840" y="189000"/>
            <a:ext cx="368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제</a:t>
            </a:r>
            <a:r>
              <a:rPr b="0" lang="en-US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16</a:t>
            </a:r>
            <a:r>
              <a:rPr b="0" lang="ko-KR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장 독점문제의 정책적 접근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642960" y="1357200"/>
            <a:ext cx="7920000" cy="25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□ </a:t>
            </a: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조세정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5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  </a:t>
            </a:r>
            <a:r>
              <a:rPr b="0" lang="ko-KR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○</a:t>
            </a:r>
            <a:r>
              <a:rPr b="0" lang="en-US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보조금정책 </a:t>
            </a:r>
            <a:r>
              <a:rPr b="0" lang="en-US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; P = MR </a:t>
            </a:r>
            <a:r>
              <a:rPr b="0" lang="ko-KR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되도록 독점자에게 보조</a:t>
            </a:r>
            <a:r>
              <a:rPr b="0" lang="en-US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 – </a:t>
            </a:r>
            <a:r>
              <a:rPr b="0" lang="ko-KR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비현실적</a:t>
            </a:r>
            <a:endParaRPr b="0" lang="en-US" sz="21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5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   ○</a:t>
            </a:r>
            <a:r>
              <a:rPr b="0" lang="en-US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조세 </a:t>
            </a:r>
            <a:r>
              <a:rPr b="0" lang="en-US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: </a:t>
            </a:r>
            <a:r>
              <a:rPr b="0" lang="ko-KR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누진적 물품세</a:t>
            </a:r>
            <a:endParaRPr b="0" lang="en-US" sz="21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5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   </a:t>
            </a:r>
            <a:r>
              <a:rPr b="0" lang="ko-KR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○</a:t>
            </a:r>
            <a:r>
              <a:rPr b="0" lang="en-US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관세 </a:t>
            </a:r>
            <a:r>
              <a:rPr b="0" lang="en-US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: </a:t>
            </a:r>
            <a:r>
              <a:rPr b="0" lang="ko-KR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관세인하</a:t>
            </a:r>
            <a:r>
              <a:rPr b="0" lang="en-US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, </a:t>
            </a:r>
            <a:r>
              <a:rPr b="0" lang="ko-KR" sz="2100" spc="-1" strike="noStrike">
                <a:solidFill>
                  <a:srgbClr val="ffffff"/>
                </a:solidFill>
                <a:latin typeface="HY견고딕"/>
                <a:ea typeface="HY견고딕"/>
              </a:rPr>
              <a:t>외국상품과의  경쟁 유도</a:t>
            </a:r>
            <a:endParaRPr b="0" lang="en-US" sz="21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" name="직사각형 4"/>
          <p:cNvSpPr/>
          <p:nvPr/>
        </p:nvSpPr>
        <p:spPr>
          <a:xfrm>
            <a:off x="8072280" y="6143760"/>
            <a:ext cx="7146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60c"/>
                </a:solidFill>
                <a:latin typeface="굴림체"/>
                <a:ea typeface="굴림체"/>
              </a:rPr>
              <a:t>7/10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Line 2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6" name="Text Box 3">
            <a:hlinkClick r:id="rId1" action="ppaction://hlinksldjump"/>
          </p:cNvPr>
          <p:cNvSpPr/>
          <p:nvPr/>
        </p:nvSpPr>
        <p:spPr>
          <a:xfrm>
            <a:off x="4587840" y="189000"/>
            <a:ext cx="368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제</a:t>
            </a:r>
            <a:r>
              <a:rPr b="0" lang="en-US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16</a:t>
            </a:r>
            <a:r>
              <a:rPr b="0" lang="ko-KR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장 독점문제의 정책적 접근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7" name="직사각형 5">
            <a:hlinkClick r:id="rId2" action="ppaction://hlinksldjump"/>
          </p:cNvPr>
          <p:cNvSpPr/>
          <p:nvPr/>
        </p:nvSpPr>
        <p:spPr>
          <a:xfrm>
            <a:off x="571680" y="5715000"/>
            <a:ext cx="800100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60c"/>
              </a:buClr>
              <a:buFont typeface="한컴바탕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60c"/>
                </a:solidFill>
                <a:latin typeface="한컴바탕"/>
                <a:ea typeface="한컴바탕"/>
              </a:rPr>
              <a:t></a:t>
            </a:r>
            <a:r>
              <a:rPr b="1" lang="en-US" sz="1400" spc="-1" strike="noStrike">
                <a:solidFill>
                  <a:srgbClr val="00060c"/>
                </a:solidFill>
                <a:latin typeface="한컴바탕"/>
                <a:ea typeface="한컴바탕"/>
              </a:rPr>
              <a:t></a:t>
            </a:r>
            <a:r>
              <a:rPr b="1" lang="ko-KR" sz="1400" spc="-1" strike="noStrike">
                <a:solidFill>
                  <a:srgbClr val="00060c"/>
                </a:solidFill>
                <a:latin typeface="한컴바탕"/>
                <a:ea typeface="한컴바탕"/>
              </a:rPr>
              <a:t>가계속하락하는자연독점산업에서는생산량</a:t>
            </a:r>
            <a:r>
              <a:rPr b="1" lang="en-US" sz="1400" spc="-1" strike="noStrike">
                <a:solidFill>
                  <a:srgbClr val="00060c"/>
                </a:solidFill>
                <a:latin typeface="한컴바탕"/>
                <a:ea typeface="한컴바탕"/>
              </a:rPr>
              <a:t></a:t>
            </a:r>
            <a:r>
              <a:rPr b="1" lang="en-US" sz="1100" spc="-1" strike="noStrike">
                <a:solidFill>
                  <a:srgbClr val="00060c"/>
                </a:solidFill>
                <a:latin typeface="한컴바탕"/>
                <a:ea typeface="한컴바탕"/>
              </a:rPr>
              <a:t></a:t>
            </a:r>
            <a:r>
              <a:rPr b="1" lang="ko-KR" sz="1400" spc="-1" strike="noStrike">
                <a:solidFill>
                  <a:srgbClr val="00060c"/>
                </a:solidFill>
                <a:latin typeface="한컴바탕"/>
                <a:ea typeface="한컴바탕"/>
              </a:rPr>
              <a:t>를두기업이경쟁적으로공급할때의평균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60c"/>
              </a:buClr>
              <a:buFont typeface="한컴바탕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60c"/>
                </a:solidFill>
                <a:latin typeface="한컴바탕"/>
                <a:ea typeface="한컴바탕"/>
              </a:rPr>
              <a:t>생산비</a:t>
            </a:r>
            <a:r>
              <a:rPr b="1" lang="en-US" sz="1400" spc="-1" strike="noStrike">
                <a:solidFill>
                  <a:srgbClr val="00060c"/>
                </a:solidFill>
                <a:latin typeface="한컴바탕"/>
                <a:ea typeface="한컴바탕"/>
              </a:rPr>
              <a:t></a:t>
            </a:r>
            <a:r>
              <a:rPr b="1" lang="ko-KR" sz="1400" spc="-1" strike="noStrike">
                <a:solidFill>
                  <a:srgbClr val="00060c"/>
                </a:solidFill>
                <a:latin typeface="한컴바탕"/>
                <a:ea typeface="한컴바탕"/>
              </a:rPr>
              <a:t>보다한기업이독점적으로공급할때의평균생산비</a:t>
            </a:r>
            <a:r>
              <a:rPr b="1" lang="en-US" sz="1400" spc="-1" strike="noStrike">
                <a:solidFill>
                  <a:srgbClr val="00060c"/>
                </a:solidFill>
                <a:latin typeface="한컴바탕"/>
                <a:ea typeface="한컴바탕"/>
              </a:rPr>
              <a:t></a:t>
            </a:r>
            <a:r>
              <a:rPr b="1" lang="ko-KR" sz="1400" spc="-1" strike="noStrike">
                <a:solidFill>
                  <a:srgbClr val="00060c"/>
                </a:solidFill>
                <a:latin typeface="한컴바탕"/>
                <a:ea typeface="한컴바탕"/>
              </a:rPr>
              <a:t>가더낮다</a:t>
            </a:r>
            <a:r>
              <a:rPr b="1" lang="en-US" sz="1400" spc="-1" strike="noStrike">
                <a:solidFill>
                  <a:srgbClr val="00060c"/>
                </a:solidFill>
                <a:latin typeface="한컴바탕"/>
                <a:ea typeface="한컴바탕"/>
              </a:rPr>
              <a:t>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직사각형 6">
            <a:hlinkClick r:id="rId3" action="ppaction://hlinksldjump"/>
          </p:cNvPr>
          <p:cNvSpPr/>
          <p:nvPr/>
        </p:nvSpPr>
        <p:spPr>
          <a:xfrm>
            <a:off x="571680" y="1000080"/>
            <a:ext cx="8001000" cy="450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5cb9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직사각형 8"/>
          <p:cNvSpPr/>
          <p:nvPr/>
        </p:nvSpPr>
        <p:spPr>
          <a:xfrm>
            <a:off x="8072280" y="6143760"/>
            <a:ext cx="7146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60c"/>
                </a:solidFill>
                <a:latin typeface="굴림체"/>
                <a:ea typeface="굴림체"/>
              </a:rPr>
              <a:t>8/10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00" name="그림 9" descr="16-1 copy.bmp"/>
          <p:cNvPicPr/>
          <p:nvPr/>
        </p:nvPicPr>
        <p:blipFill>
          <a:blip r:embed="rId4"/>
          <a:stretch/>
        </p:blipFill>
        <p:spPr>
          <a:xfrm>
            <a:off x="1763640" y="1413000"/>
            <a:ext cx="5545080" cy="3671640"/>
          </a:xfrm>
          <a:prstGeom prst="rect">
            <a:avLst/>
          </a:prstGeom>
          <a:ln cap="sq" w="64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01" name="모서리가 둥근 직사각형 10"/>
          <p:cNvSpPr/>
          <p:nvPr/>
        </p:nvSpPr>
        <p:spPr>
          <a:xfrm>
            <a:off x="1476360" y="1268280"/>
            <a:ext cx="2808360" cy="360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60c"/>
                </a:solidFill>
                <a:latin typeface="굴림"/>
              </a:rPr>
              <a:t>그림 </a:t>
            </a:r>
            <a:r>
              <a:rPr b="1" lang="en-US" sz="1200" spc="-1" strike="noStrike">
                <a:solidFill>
                  <a:srgbClr val="00060c"/>
                </a:solidFill>
                <a:latin typeface="굴림"/>
              </a:rPr>
              <a:t>16-1  </a:t>
            </a:r>
            <a:r>
              <a:rPr b="1" lang="ko-KR" sz="1200" spc="-1" strike="noStrike">
                <a:solidFill>
                  <a:srgbClr val="00060c"/>
                </a:solidFill>
                <a:latin typeface="굴림"/>
              </a:rPr>
              <a:t>규모의 경제와 자연독점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Line 2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4587840" y="189000"/>
            <a:ext cx="368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제</a:t>
            </a:r>
            <a:r>
              <a:rPr b="0" lang="en-US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16</a:t>
            </a:r>
            <a:r>
              <a:rPr b="0" lang="ko-KR" sz="2800" spc="-1" strike="noStrike">
                <a:solidFill>
                  <a:srgbClr val="ffff00"/>
                </a:solidFill>
                <a:latin typeface="HY견고딕"/>
                <a:ea typeface="HY견고딕"/>
              </a:rPr>
              <a:t>장 독점문제의 정책적 접근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571680" y="5715000"/>
            <a:ext cx="800100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60c"/>
              </a:buClr>
              <a:buFont typeface="한컴바탕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60c"/>
                </a:solidFill>
                <a:latin typeface="한컴바탕"/>
                <a:ea typeface="한컴바탕"/>
              </a:rPr>
              <a:t></a:t>
            </a:r>
            <a:r>
              <a:rPr b="1" lang="ko-KR" sz="1400" spc="-1" strike="noStrike">
                <a:solidFill>
                  <a:srgbClr val="00060c"/>
                </a:solidFill>
                <a:latin typeface="한컴바탕"/>
                <a:ea typeface="한컴바탕"/>
              </a:rPr>
              <a:t>수익률규제가</a:t>
            </a:r>
            <a:r>
              <a:rPr b="1" lang="en-US" sz="1400" spc="-1" strike="noStrike">
                <a:solidFill>
                  <a:srgbClr val="00060c"/>
                </a:solidFill>
                <a:latin typeface="한컴바탕"/>
                <a:ea typeface="한컴바탕"/>
              </a:rPr>
              <a:t></a:t>
            </a:r>
            <a:r>
              <a:rPr b="1" lang="ko-KR" sz="1400" spc="-1" strike="noStrike">
                <a:solidFill>
                  <a:srgbClr val="00060c"/>
                </a:solidFill>
                <a:latin typeface="한컴바탕"/>
                <a:ea typeface="한컴바탕"/>
              </a:rPr>
              <a:t>실시되면가격이평균생산비를넘지못하도록</a:t>
            </a:r>
            <a:r>
              <a:rPr b="1" lang="en-US" sz="1400" spc="-1" strike="noStrike">
                <a:solidFill>
                  <a:srgbClr val="00060c"/>
                </a:solidFill>
                <a:latin typeface="한컴바탕"/>
                <a:ea typeface="한컴바탕"/>
              </a:rPr>
              <a:t></a:t>
            </a:r>
            <a:r>
              <a:rPr b="1" lang="ko-KR" sz="1400" spc="-1" strike="noStrike">
                <a:solidFill>
                  <a:srgbClr val="00060c"/>
                </a:solidFill>
                <a:latin typeface="한컴바탕"/>
                <a:ea typeface="한컴바탕"/>
              </a:rPr>
              <a:t>에서가격상한선이설정된다</a:t>
            </a:r>
            <a:r>
              <a:rPr b="1" lang="en-US" sz="1400" spc="-1" strike="noStrike">
                <a:solidFill>
                  <a:srgbClr val="00060c"/>
                </a:solidFill>
                <a:latin typeface="한컴바탕"/>
                <a:ea typeface="한컴바탕"/>
              </a:rPr>
              <a:t>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571680" y="1000080"/>
            <a:ext cx="8001000" cy="450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5cb9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6" name="직사각형 8"/>
          <p:cNvSpPr/>
          <p:nvPr/>
        </p:nvSpPr>
        <p:spPr>
          <a:xfrm>
            <a:off x="8072280" y="6143760"/>
            <a:ext cx="7146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60c"/>
                </a:solidFill>
                <a:latin typeface="굴림체"/>
                <a:ea typeface="굴림체"/>
              </a:rPr>
              <a:t>9/10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07" name="그림 9" descr="16-2 copy.bmp"/>
          <p:cNvPicPr/>
          <p:nvPr/>
        </p:nvPicPr>
        <p:blipFill>
          <a:blip r:embed="rId1"/>
          <a:stretch/>
        </p:blipFill>
        <p:spPr>
          <a:xfrm>
            <a:off x="1835280" y="1484280"/>
            <a:ext cx="5400720" cy="3673440"/>
          </a:xfrm>
          <a:prstGeom prst="rect">
            <a:avLst/>
          </a:prstGeom>
          <a:ln cap="sq" w="64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08" name="모서리가 둥근 직사각형 10"/>
          <p:cNvSpPr/>
          <p:nvPr/>
        </p:nvSpPr>
        <p:spPr>
          <a:xfrm>
            <a:off x="1476360" y="1268280"/>
            <a:ext cx="3095640" cy="360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60c"/>
                </a:solidFill>
                <a:latin typeface="굴림"/>
              </a:rPr>
              <a:t>그림 </a:t>
            </a:r>
            <a:r>
              <a:rPr b="1" lang="en-US" sz="1200" spc="-1" strike="noStrike">
                <a:solidFill>
                  <a:srgbClr val="00060c"/>
                </a:solidFill>
                <a:latin typeface="굴림"/>
              </a:rPr>
              <a:t>16-2  </a:t>
            </a:r>
            <a:r>
              <a:rPr b="1" lang="ko-KR" sz="1200" spc="-1" strike="noStrike">
                <a:solidFill>
                  <a:srgbClr val="00060c"/>
                </a:solidFill>
                <a:latin typeface="굴림"/>
              </a:rPr>
              <a:t>수익률규제에 의한 가격책정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03:48Z</dcterms:created>
  <dc:creator>Administrator</dc:creator>
  <dc:description/>
  <dc:language>en-US</dc:language>
  <cp:lastModifiedBy>USE</cp:lastModifiedBy>
  <dcterms:modified xsi:type="dcterms:W3CDTF">2011-02-23T08:17:36Z</dcterms:modified>
  <cp:revision>35</cp:revision>
  <dc:subject/>
  <dc:title>슬라이드 1</dc:title>
</cp:coreProperties>
</file>